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963-7F10-4E82-9DE7-72B7265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97B-90FC-42B9-A9AC-817B10D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D4E-AD58-4B7E-B093-D87A00B8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5B1-9D3E-4715-B1E9-52C94747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535-FA9E-441F-98D5-C90C222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26B-214B-4298-BA5C-B873174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E69-80C0-4C4C-9FBE-F8DEEFB9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9E2-C913-4024-B47C-DD5D53C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483-62A8-44D9-80F9-3279362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A6D-7B83-40E4-9721-660029F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D93-DEE1-462D-8EBB-D1D1CD4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BEB-4C90-47A0-8CBD-255D836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4C23-20D2-4EAF-A002-74AFD58271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Birthday Basket for Ti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pinata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inetiet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au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ask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ollec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an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favorit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4-24T01:36:54Z</dcterms:modified>
  <cp:revision>38</cp:revision>
  <dc:subject/>
  <dc:title>Password</dc:title>
</cp:coreProperties>
</file>